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B65-5F50-4048-8DF4-8C5EBE8E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F2D-BA6C-4A2B-B7DC-3EA124F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27B-679E-4010-9B06-62594C96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709-0A71-478A-A006-A0EDAB66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A0BE-2522-4412-BD5F-84FB1B65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4EEF-94CE-4C34-90F1-1D9194C5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685-0B12-496D-A51A-618BA00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DDDE-0C80-446C-B19F-A4BDE4C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118-0996-421D-8CD8-4072CC49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0A0A-D7FA-44A4-B7D4-6F34E7E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805F-BEBE-4F68-B5EC-F8B07BF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320-40E3-4F5D-8945-9733990D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0314-2765-4364-97E0-FCB04DC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2FBA-358F-47AC-AC1B-D277BDE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6B80-3EF1-4E63-8929-C726E667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248-FC50-4789-A551-717484C0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42B-FE35-46C7-AA74-57526F92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720-5692-4413-BF6F-A28B075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5DD-C080-4BAB-95ED-4107754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530-5175-442A-9243-E5C8ECF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195-C30E-4104-83DB-4904365C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F7F-02E6-4FCA-AEC6-F6137E3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375-0DB0-4FB2-B010-D0ED2368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91A-8E0F-4BFB-A7F4-EF28881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4C37-2A29-4798-BF04-D95165FE9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E0D6-FF9B-4590-BB02-523770CEC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ndb.com/people/612/000091339/dennis-rader-1.jpg&amp;imgrefurl=http://www.nndb.com/people/612/000091339/&amp;h=224&amp;w=300&amp;sz=8&amp;tbnid=RIaxA6lggLsJ:&amp;tbnh=82&amp;tbnw=111&amp;hl=en&amp;start=4&amp;prev=/images%3Fq%3DDennis%2BRader%26svnum%3D10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5ffff"/>
                </a:solidFill>
                <a:uFillTx/>
                <a:latin typeface="Tahoma"/>
              </a:rPr>
              <a:t>Forensic Psycholog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rial Kill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iminal Profi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ching 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to catch because they easily blend back into society after they k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TK K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nis R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ried 34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grown child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d as a code enfor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 Scout leader, active in chur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352680"/>
            <a:ext cx="2590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minal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s modus operandi &amp; victim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es to determine the types of personality characteristics the killer poss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to reduce population from which the killer is am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the likelihood of catc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ginning of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888, London – Jack the Ri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prostitutes murdered &amp; disembowe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r. Thomas Bond (surge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ed autopsy on #5.  Offered “thoughts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er/Hatred towards wo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, cool, &amp; daring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wear a cloak to hide blood sta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aged, loner, no real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iatric Approach to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930’s-196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l Berg questioned Peter Kurten (German serial killer in prison 193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 Profile written on Adolf Hitler 194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ed analyses to help understand cr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yet behavioral pro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to structure &amp; ideas of profiling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mous 1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C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r. James Bruss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d Bomber – NY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explosions in 1940’s-5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 many angry letters to newspapers, politicians, &amp; utility comp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Brussel examined &amp; offered though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, ethnicity, motivation, age, personal appearance, mental status, living arrangement, religion, &amp; employ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Dr. James Brussel"/>
          <p:cNvPicPr/>
          <p:nvPr/>
        </p:nvPicPr>
        <p:blipFill>
          <a:blip r:embed="rId2"/>
          <a:stretch/>
        </p:blipFill>
        <p:spPr>
          <a:xfrm>
            <a:off x="6400800" y="380880"/>
            <a:ext cx="203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BI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increase in # of mu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Behavior Science Unit – 197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methods for analyzing unknown offenders in unsolved c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rime scenes to look for personality traits &amp; mental dis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iling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“art” than sc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upon patterns of past cases, assuming human pattern is comm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e scene, weapon, dump site, details about the victim (victimology), transportation, time of day, position of items in crime sc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ctim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as much as possible about the victim (hours/days before murd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move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ine personal commun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of mind &amp; mental heal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level (prostitute vs. girl in hom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when the killer crossed pa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i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us operan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inal &amp; Psychiatric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cal tra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 of res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ad Bomber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eorge Metesk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aged M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with 2 unmarried sisters in 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ighbors called it the “Crazy Hous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mployed, trips to NYC for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r Con Edison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rrested, changed into a double breasted su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George Metesky in jail"/>
          <p:cNvPicPr/>
          <p:nvPr/>
        </p:nvPicPr>
        <p:blipFill>
          <a:blip r:embed="rId2"/>
          <a:stretch/>
        </p:blipFill>
        <p:spPr>
          <a:xfrm>
            <a:off x="5943600" y="304920"/>
            <a:ext cx="1924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Three or m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parate ev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ree or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parate loc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an emotiona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ling off peri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between homicid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ined by Robert Ressler in 1970’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first in the Ted Bundy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“accepted” serial killer was Jack the R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d Bomber Prof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udge against Con Edison Uti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no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aged (50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been bombing for 16 year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t &amp; meticulou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r double-breasted suits.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ly sensitive to critic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ign or spent time with foreign peo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n Edison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 &amp; Roman Cathol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mbs as weap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School, no colle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in 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l &amp; Slav commun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edipal Compl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married, female relative.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chard Trenton Chase –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rdered woman in home, eviscerating her &amp; drinking her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fi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 – most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awny – due to temperament stu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areer, little education – little thought/planning in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organized, possible parano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ft fingerprints &amp; footpri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file continu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 would be sloppy like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al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tally unstable, so didn’t drive 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ly lived in immediate are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, aged 25-2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upon information that crimes as such are same aged, intra-racial, &amp; paranoid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ly to kill again so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days later; 3 people in home. Stole car &amp; kidnapped ba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KILL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male 27 years 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1 block away from kill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noid delu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lone, unemployed, treated in psychiatric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parts, empty pet collars, &amp; bloodstained blender found in h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on release, killed 44 before these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Saving his own life “because his blood was turning to sand &amp; needed others blo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790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Usually) don’t know their vict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 a need to dominate vict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ly kill for material “profit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ing often has symbolic mea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choose vulnerable victi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itutes, Runaways, 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acteristics of 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sed upon 36 incarcerated serial kill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4: By FBI agent Robert Ressl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90% are white, 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-35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used as childr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, sexual, emo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uelty towards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rial Killer Characteristics Cont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 in fire (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yromani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60% still wetting bed at age 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andoned by fathers; domineering m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e their fa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poorly in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hold job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hood psychiatric problems; high suicide attempt r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ur Motives for Serial Mur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.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2. Domin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3.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4. Sexual Lu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ego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der because they hear voices or have visions that direct them to do 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ders because they believe that they are meant to get rid of a particular group of peo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d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ype kills for the sheer pleasure of it, although what aspect they enjoy va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categ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donistic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 mo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gratification is main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 of killing is main motiv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donistic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or personal gain is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imilar to lust but not sexual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feeling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E. – Hannibal Lecter – wanted to be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3:06:38Z</dcterms:created>
  <dc:creator> </dc:creator>
  <dc:description/>
  <dc:language>en-US</dc:language>
  <cp:lastModifiedBy>Theresa DeLaurentis</cp:lastModifiedBy>
  <dcterms:modified xsi:type="dcterms:W3CDTF">2008-03-11T01:26:17Z</dcterms:modified>
  <cp:revision>18</cp:revision>
  <dc:subject/>
  <dc:title>Forensic Psychology</dc:title>
</cp:coreProperties>
</file>